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4FA-D543-41D6-9EC0-326B22A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5F3-7E4D-4A67-91AE-CFE2D15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727-0E51-4807-B2A3-B9DFF7EB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35B-5B23-4D7E-8046-B9C1F43A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4D2-6160-47C3-9698-7BC43CF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B09-07D1-4A6D-8708-14A387A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A3E-423E-4218-A413-40F96C8F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96E-01BF-4111-A519-C3995126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807-7ECD-4DD5-9CB2-9BD6702B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176B-A529-40CD-8787-11EA8C90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B0D-4B44-4CD5-9B28-A8F8B36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E8F-90D4-4A55-A5FA-0327E81B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37C5-C13C-43D5-9FDE-03DAEE1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2D3-3DAA-43E0-AB7F-2F48D9B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422D-C69D-4701-935C-0B0E276C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D0F9-222B-4124-8E34-FBF3440C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9D0D-7132-4F0F-AE6C-E38C2F9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CBA-169D-427D-A14A-3E12EB7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A27-22F8-42DE-AB77-CF7570D0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AC6-7D7C-4DCC-8384-6B34CE40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688-8B00-406B-B738-C5B6F9A1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9E7-4237-4F67-9D28-DAF0D6D1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E29-9F07-401E-A7C9-261BAD5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BCD-1EE0-44ED-BAD7-1CABAEA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9104-F036-4111-9663-6D24408C3A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A02-CA61-43A5-8128-0553D75F0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А.П.Чехов. Слово о писателе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р: Чупрова Анастасия Васильевна, студентка 4 курса филологического факультета КГПИ, г. Сыктывкар, 2010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Основополагающий вопрос проек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то создавал классическую литератур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облемные вопро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гда родился А.П.Чех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де родился Антон Павлович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акой семье вырос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 учился Антоша в гимнази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Чем увлекался в гимназические годы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гда он впервые начал писа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 называются первые произведени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ими псевдонимами подписывал свои произведения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едставление результатов исследовани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кле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то-репорта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чин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ворческое зада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цениров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Мы будем изучать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изнь и творчество Антона Павловича Чех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Распределение по группам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981080"/>
          <a:ext cx="7772400" cy="2978280"/>
        </p:xfrm>
        <a:graphic>
          <a:graphicData uri="http://schemas.openxmlformats.org/drawingml/2006/table">
            <a:tbl>
              <a:tblPr/>
              <a:tblGrid>
                <a:gridCol w="798480"/>
                <a:gridCol w="3429000"/>
                <a:gridCol w="3544920"/>
              </a:tblGrid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ство и семья А.П.Че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а и ув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вые произведения и псевдо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одолжительность проект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неделя: 4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Этапы проведения проект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бор 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ормулировка 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иск информ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амостоятельная работа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щита про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Информационные ресур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Коровиной, 5 класс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урнал «Литература В школ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www.my-chekhov.r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ilibrary.ru/bio/chekhov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www.abc-people.com/data/chehov/bio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3T04:59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